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BFD-DD41-480E-9D3B-02AEC54E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9D0-0520-4119-964B-036D099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28D-7BFE-4BD9-B92F-10F3A77C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8B0-7F5F-4576-8FAC-842092CA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4405-7904-4FD4-A898-48EF0DE4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901-BE15-47F1-8634-FD5FE8A8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09B-3CA1-4DA3-873E-6C32592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CC9-CD36-43A3-AA8F-4869EF08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072C-4147-4F63-A885-4AE3B0D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705-0CBA-4DCF-ACA0-EF43E53E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DEC-6F18-4555-B41A-C64DA44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ED6-F0EC-4618-A822-DD86FB8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43E-2ACB-498E-A172-CF53299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71BF-4B94-4D11-BFD7-8330AD3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1F5D-03A8-4CD6-83F7-9D6B6B31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C940-A400-4F47-920C-0F137DB8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838-2E40-4FB6-B03B-9D4953F5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04B-FB8A-462F-9A02-87B51FB3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AAB-6C0A-483E-9C8E-369E4C32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455-E763-4BB3-B167-FF76CDE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5CC-93D3-4056-A496-30DF9864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D05-206E-4A6B-8130-0F9AE01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823-8233-4D90-8469-10A65F4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3B5-EC05-4324-9861-6A3D1B0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B86B-7419-41EA-B84F-CF571D376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CB5-5FE1-42AF-B1F1-553D94C73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ctmonster.com/mathmoney.html%22%22=%22%22%20target=" TargetMode="External"/><Relationship Id="rId2" Type="http://schemas.openxmlformats.org/officeDocument/2006/relationships/hyperlink" Target="http://www.factmonster.com/math/flashcards.html%22%22=%22%22%20target=" TargetMode="External"/><Relationship Id="rId3" Type="http://schemas.openxmlformats.org/officeDocument/2006/relationships/hyperlink" Target="http://www.factmonster.com/homework/%22%22=%22%22%20target=" TargetMode="External"/><Relationship Id="rId4" Type="http://schemas.openxmlformats.org/officeDocument/2006/relationships/hyperlink" Target="http://www.factmonster.com/states.html%22%22=%22%22%20target=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ctmonster.com/homework/hwgeography.html" TargetMode="External"/><Relationship Id="rId2" Type="http://schemas.openxmlformats.org/officeDocument/2006/relationships/hyperlink" Target="http://www.factmonster.com/homework/hwhistory.html" TargetMode="External"/><Relationship Id="rId3" Type="http://schemas.openxmlformats.org/officeDocument/2006/relationships/hyperlink" Target="http://www.factmonster.com/homework/hwenglish.html" TargetMode="External"/><Relationship Id="rId4" Type="http://schemas.openxmlformats.org/officeDocument/2006/relationships/hyperlink" Target="http://www.factmonster.com/homework/hwmath.html" TargetMode="External"/><Relationship Id="rId5" Type="http://schemas.openxmlformats.org/officeDocument/2006/relationships/hyperlink" Target="http://www.factmonster.com/homework/hwscience.html" TargetMode="External"/><Relationship Id="rId6" Type="http://schemas.openxmlformats.org/officeDocument/2006/relationships/hyperlink" Target="http://www.factmonster.com/homework/hwsocstudies.html" TargetMode="External"/><Relationship Id="rId7" Type="http://schemas.openxmlformats.org/officeDocument/2006/relationships/hyperlink" Target="http://www.factmonster.com/homework/writingskills1.html" TargetMode="External"/><Relationship Id="rId8" Type="http://schemas.openxmlformats.org/officeDocument/2006/relationships/hyperlink" Target="http://www.factmonster.com/homework/researchskills1.html" TargetMode="External"/><Relationship Id="rId9" Type="http://schemas.openxmlformats.org/officeDocument/2006/relationships/hyperlink" Target="http://www.factmonster.com/homework/speaklisten.html" TargetMode="External"/><Relationship Id="rId10" Type="http://schemas.openxmlformats.org/officeDocument/2006/relationships/hyperlink" Target="http://www.factmonster.com/homework/studyskills1.html" TargetMode="External"/><Relationship Id="rId11" Type="http://schemas.openxmlformats.org/officeDocument/2006/relationships/hyperlink" Target="http://www.factmonster.com/homework/hwsearch.html" TargetMode="External"/><Relationship Id="rId12" Type="http://schemas.openxmlformats.org/officeDocument/2006/relationships/hyperlink" Target="http://www.factmonster.com/almanacs.html" TargetMode="External"/><Relationship Id="rId13" Type="http://schemas.openxmlformats.org/officeDocument/2006/relationships/hyperlink" Target="http://www.factmonster.com/atlas/" TargetMode="External"/><Relationship Id="rId14" Type="http://schemas.openxmlformats.org/officeDocument/2006/relationships/hyperlink" Target="http://www.factmonster.com/dictionary.html" TargetMode="External"/><Relationship Id="rId15" Type="http://schemas.openxmlformats.org/officeDocument/2006/relationships/hyperlink" Target="http://www.factmonster.com/encyclopedia.html" TargetMode="External"/><Relationship Id="rId16" Type="http://schemas.openxmlformats.org/officeDocument/2006/relationships/hyperlink" Target="http://www.factmonster.com/people.html" TargetMode="External"/><Relationship Id="rId17" Type="http://schemas.openxmlformats.org/officeDocument/2006/relationships/hyperlink" Target="http://www.factmonster.com/pages/unitconversion.html" TargetMode="External"/><Relationship Id="rId18" Type="http://schemas.openxmlformats.org/officeDocument/2006/relationships/hyperlink" Target="http://www.factmonster.com/chemistry/" TargetMode="External"/><Relationship Id="rId19" Type="http://schemas.openxmlformats.org/officeDocument/2006/relationships/hyperlink" Target="http://www.factmonster.com/periodictable.php" TargetMode="External"/><Relationship Id="rId20" Type="http://schemas.openxmlformats.org/officeDocument/2006/relationships/hyperlink" Target="http://www.factmonster.com/atlas/calculate-distance.html" TargetMode="External"/><Relationship Id="rId21" Type="http://schemas.openxmlformats.org/officeDocument/2006/relationships/hyperlink" Target="http://www.factmonster.com/atlas/latitude-longitude.html" TargetMode="External"/><Relationship Id="rId22" Type="http://schemas.openxmlformats.org/officeDocument/2006/relationships/hyperlink" Target="http://www.factmonster.com/math/flashcards.html" TargetMode="External"/><Relationship Id="rId23" Type="http://schemas.openxmlformats.org/officeDocument/2006/relationships/hyperlink" Target="http://www.factmonster.com/pages/numeralgame.html" TargetMode="External"/><Relationship Id="rId24" Type="http://schemas.openxmlformats.org/officeDocument/2006/relationships/hyperlink" Target="http://www.factmonster.com/yearbyyear.html" TargetMode="External"/><Relationship Id="rId25" Type="http://schemas.openxmlformats.org/officeDocument/2006/relationships/hyperlink" Target="http://www.factmonster.com/dayinhistory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ctmonster.com/birthday" TargetMode="External"/><Relationship Id="rId2" Type="http://schemas.openxmlformats.org/officeDocument/2006/relationships/hyperlink" Target="http://www.factmonster.com/fmnews.html" TargetMode="External"/><Relationship Id="rId3" Type="http://schemas.openxmlformats.org/officeDocument/2006/relationships/hyperlink" Target="http://www.factmonster.com/spot/timelinearchive.html" TargetMode="External"/><Relationship Id="rId4" Type="http://schemas.openxmlformats.org/officeDocument/2006/relationships/hyperlink" Target="http://www.factmonster.com/analogies" TargetMode="External"/><Relationship Id="rId5" Type="http://schemas.openxmlformats.org/officeDocument/2006/relationships/hyperlink" Target="http://www.factmonster.com/spellingbee" TargetMode="External"/><Relationship Id="rId6" Type="http://schemas.openxmlformats.org/officeDocument/2006/relationships/hyperlink" Target="http://www.factmonster.com/wordoftheday" TargetMode="External"/><Relationship Id="rId7" Type="http://schemas.openxmlformats.org/officeDocument/2006/relationships/hyperlink" Target="http://www.factmonster.com/homework/faq.html" TargetMode="External"/><Relationship Id="rId8" Type="http://schemas.openxmlformats.org/officeDocument/2006/relationships/hyperlink" Target="http://www.factmonster.com/askeds/" TargetMode="External"/><Relationship Id="rId9" Type="http://schemas.openxmlformats.org/officeDocument/2006/relationships/hyperlink" Target="http://www.factmonster.com/askeds/" TargetMode="External"/><Relationship Id="rId10" Type="http://schemas.openxmlformats.org/officeDocument/2006/relationships/hyperlink" Target="http://www.factmonster.com/spot/halloween.html" TargetMode="External"/><Relationship Id="rId11" Type="http://schemas.openxmlformats.org/officeDocument/2006/relationships/hyperlink" Target="http://www.factmonster.com/spot/halloween.html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ACTMONS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78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MONSTER: HOMEWORK MADE EAS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ames &amp; Quiz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Countries of the Wo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FERENCE DE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 ALMAN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Z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MEWORK CENTER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TEG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5905800" cy="3090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eograph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istor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Language Ar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athematic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cien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Social Studi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Writin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Research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peaking &amp; Liste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Study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ference Sour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Search Tip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rowse: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lmanac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tla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Dictionary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Encyclopedi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Biographi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arch: All Reference Biographi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ools for Schoo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Conversion Calcul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Chemistry Pla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Periodic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Geography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Calculate Distance (U.S. locations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!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Find Latitude and Longitud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(U.S. locations)  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!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ath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Math Flashcard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Roman Numeral Challen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istory &amp; Current Event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Year by Year: 1900–2010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nter a year: 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The Day in History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lect month &amp; date: 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ON TOP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otable Birthday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lect month &amp; date: 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Today's New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Timel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nguage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nalogy of the D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Daily Spelling Be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d Quiz: </a:t>
            </a: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immunit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Q's: 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Fast answers to common question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k the Fact Monster: 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Your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questions answer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allowee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eritage Featu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eb: Black Histor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r: Women's Histor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: Asian Pacific American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pt/Oct: Hispanic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: American-Indian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ed Homework Help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MES/QUIZZ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P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DAY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G MAN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0:54:18Z</dcterms:created>
  <dc:creator>Peggy</dc:creator>
  <dc:description/>
  <dc:language>en-US</dc:language>
  <cp:lastModifiedBy>training</cp:lastModifiedBy>
  <dcterms:modified xsi:type="dcterms:W3CDTF">2011-10-22T13:19:06Z</dcterms:modified>
  <cp:revision>9</cp:revision>
  <dc:subject/>
  <dc:title>FACTMONSTER</dc:title>
</cp:coreProperties>
</file>